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C824-0E23-4A56-8FA4-EA10A2B79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4A0B-CBF1-4044-BA07-BAEF048C1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607E-871D-4063-8A29-957A0EFDB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2E62-152F-4820-A1C4-35788DA64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2E80-30AF-4FC7-B998-EBD74D485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620E-0703-4938-8448-7471A4C4E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1A59-99DA-478B-8F4A-D8188EC12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9569-4581-499E-A884-4B9E0259D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2C98-85AB-4DDD-B07D-1EBE4B566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D92B-C925-4089-9922-4845EB47A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5135-143F-41D5-84EE-6D9D73B35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5A9C-879E-41D5-99C2-F051B86B3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8614-6374-4FD0-9CE9-FAD67DBAC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BE2D-3AD2-42D6-AC2C-907C5101F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48DD-8A2F-4B3F-9835-3D509A406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4DCA-D49F-4739-BC87-D7B6E582B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4274-338C-4737-8F89-0C832FEB7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1037-B68C-4D04-8A46-5B18E43C0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9270-DB95-43CB-A9B2-8B55594F0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BE75-0E87-4102-B428-90BD8E384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37C23-A5D1-4AFC-A8E5-1C42B6AA9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16A64-BA4E-4796-8159-205D45B1B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09C84-0349-411F-9190-36E35FA80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E09A8-369C-4E2C-9F39-6B8EE91BB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82488-2B73-450B-A408-7E115E9CD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4BD20-BD99-42CA-A662-951715DF8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55FE3-7E8C-43C3-82BF-4ED0EFC10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CA556-6E35-453F-BCC3-B37735C4E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585DC-8355-4055-8351-A8E651229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A02CD-3E8B-47BF-9B90-82A8EF7AD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C0A26-31CC-4ACE-83C2-C52A3A21D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3630-0BB6-41AD-A6D0-698479473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07FB-6E7E-4FEF-9AE6-70CC795F40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elaine barron (ebarron@avonworth.k12.pa.us)</cp:lastModifiedBy>
  <dcterms:modified xsi:type="dcterms:W3CDTF">2010-03-22T17:01:58Z</dcterms:modified>
  <cp:revision>119</cp:revision>
  <dc:subject/>
  <dc:title>Wikispaces for Teachers A guide to using them in your classroom</dc:title>
</cp:coreProperties>
</file>